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95E-6BF2-4695-9338-577C4EA0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256-B5CB-4B42-8C81-4B18F6F9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E20D-E49A-4D3A-8AAC-F4F24E8B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660E-6E3D-486D-9047-583979BF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FE0-5AD3-4F0F-B8A4-8739A55C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79DF-E68B-44AE-BA6A-55D319D1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F5E7-B433-4937-80B1-8A50F2F3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56D4-C236-4F4C-8AF3-88EC2694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255D-1709-4C17-99C0-E8BDA3CE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1EA-53BD-4EB2-A394-E62499F7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F37C-77D0-4142-87ED-037C1D7B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3778-247A-47F9-AD73-E6E66B91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DC71-B1CF-4FF1-8191-84FB51E6C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274320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ic Car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llu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228600"/>
            <a:ext cx="274176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72200" y="227160"/>
            <a:ext cx="274176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1733400" cy="1752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1752480"/>
            <a:ext cx="1981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228600"/>
            <a:ext cx="274320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ic Car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llu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228600"/>
            <a:ext cx="274320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ric Car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llu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1752480"/>
            <a:ext cx="198108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1828800"/>
            <a:ext cx="1981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429000" y="4481640"/>
            <a:ext cx="173340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400800" y="4524480"/>
            <a:ext cx="1733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21:08:11Z</dcterms:created>
  <dc:creator>Judith M Paradis</dc:creator>
  <dc:description/>
  <dc:language>en-US</dc:language>
  <cp:lastModifiedBy>Sandra Roby</cp:lastModifiedBy>
  <dcterms:modified xsi:type="dcterms:W3CDTF">2008-01-01T18:25:30Z</dcterms:modified>
  <cp:revision>15</cp:revision>
  <dc:subject/>
  <dc:title>Slide 1</dc:title>
</cp:coreProperties>
</file>